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7D52-934C-413C-B86B-03FB727FCE3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724-6FE4-44D4-8822-FAEC7084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F6B8-8AE2-46B7-9F57-2BA3AAFC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84E-8285-4368-BDD7-E5353FA1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9716-124B-498E-914C-C69032FD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F9C-2C8F-4DFE-8399-1DF0CD7C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173E-FF2B-49B8-A9E8-F5A922A6B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6BDF-F140-423A-98C7-8BA88B05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12A7-B1BE-4DDF-BBFE-4506B94E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124B-4E28-40EE-A27F-E670E29A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F8CE-A50C-4A63-A279-53996E4E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B44F-0D8E-4FCE-B61C-DC767E5E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5965-1454-46CC-BD3D-6305315B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DAC4-EADA-4FBA-9252-3627BCE6C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and offline data hand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large detector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signed for non-accelerator experi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6680" y="297180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Yoshinari Hayato (IC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20440" y="3860640"/>
            <a:ext cx="445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ficulty ( Water Cherenkov detector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transfer via 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format for the on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designing the data handl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of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39040" y="5516640"/>
            <a:ext cx="76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so, this computer will allow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est the system in the “standalone mod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you can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run the remaining part of the det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96080" y="1525680"/>
            <a:ext cx="556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out system can be consis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hardware modules on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It will be robus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one sen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74920" y="429264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thus, it is possible to per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detailed consistency chec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data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he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56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59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62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366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8000" y="3502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19880" y="765000"/>
            <a:ext cx="339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cc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check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adou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419640" y="3573360"/>
            <a:ext cx="56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cause each readout system does not hand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not so many PMT h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64760" y="50068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oo much data makes you trouble in finding error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22720" y="2565360"/>
            <a:ext cx="57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I (personally) think it is b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have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 computer i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least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for the error detec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988000" y="3008160"/>
            <a:ext cx="598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applying the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ntelligent-trig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very important to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ke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the revisions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alibration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ftware used to select (define) an ev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50560" y="4311720"/>
            <a:ext cx="57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kind of information should be k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offline analys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s al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6160" y="6345360"/>
            <a:ext cx="85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or example, missing block need to be “corrected” in the calori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91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94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97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401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85760" y="765000"/>
            <a:ext cx="472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Next check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Hit sorter + M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Intelligent trigg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Offlin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5960" y="2295360"/>
            <a:ext cx="489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, it is possible to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l the hits from entire detect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000" y="35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984400" y="5018040"/>
            <a:ext cx="60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so, the relation between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he raw data ( raw hit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the reconstructed resul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ould be kep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46440" y="5680080"/>
            <a:ext cx="92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Slow monitor information (low voltage/high voltage, temperature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are also very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74760" y="836640"/>
            <a:ext cx="73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s a (raw) data storag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will be a problem in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istributing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600" y="2822400"/>
            <a:ext cx="787392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course,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atabase is very usefu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various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Keep tracks of calibration cons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accelerator based long baseline experime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will be very convenient to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keep the beam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nd the beam properti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73600" y="5877000"/>
            <a:ext cx="67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of the time,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imple(?) data base system is enoug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OT, Berkeley DB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2560" y="10152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se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81640" y="40464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Personal opinio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0440" y="1628640"/>
            <a:ext cx="50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replication is possible but not so si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70200" y="1916280"/>
            <a:ext cx="71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ing various data access method (direct file I/O &amp; DB I/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ght cause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88480" y="5013360"/>
            <a:ext cx="776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But it is not necessary to use famous Relational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(Oracle, PostgreSQL, mySQL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7680" y="92160"/>
            <a:ext cx="17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3480" y="717480"/>
            <a:ext cx="735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from the water Cherenkov type detect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 amount of data could b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a few GB/s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1484280"/>
            <a:ext cx="753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It is not impossible to hand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is data with recent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the system should be designed care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1480" y="2205000"/>
            <a:ext cx="75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oss of the data is really critical in the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8080" y="5516640"/>
            <a:ext cx="76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keep in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how to detect and investigate trou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43200" y="2637000"/>
            <a:ext cx="76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reduce the down ti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cept of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HA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be use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210320" y="4006800"/>
            <a:ext cx="753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necessary to recognize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haracteristic of the data flo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online/DAQ system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is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from the usual network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6720" y="35481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sign of the network system i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41120" y="498312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ize of the packe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ght be a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320" y="101520"/>
            <a:ext cx="22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1720" y="1101600"/>
            <a:ext cx="85075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the online/DAQ system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(slightly) different</a:t>
            </a:r>
            <a:r>
              <a:rPr b="0" lang="zh-CN" sz="2000" spc="-1" strike="noStrike">
                <a:solidFill>
                  <a:srgbClr val="d60093"/>
                </a:solidFill>
                <a:latin typeface="Comic Sans MS"/>
              </a:rPr>
              <a:t>　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from the “accelerator” based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6400" y="1844640"/>
            <a:ext cx="689076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Rare events ( nucleon decay, super nova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can happen “at any tim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Natural neutrino beam is always th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Order of the events is also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1360" y="5840280"/>
            <a:ext cx="51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riggered by the detector (system)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0480" y="4579920"/>
            <a:ext cx="38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Dead-time needs be min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Dead-time should be reco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0080" y="6237360"/>
            <a:ext cx="64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Condition of the detector is necessary to be reco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1440" y="62064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Large neutrino and nucleon decay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6360" y="425592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Keep the detector running “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all the time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” without dead-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9720" y="5208480"/>
            <a:ext cx="79088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Dead-time (down time) due to the equipment trouble or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Dead-time due to the limitation of the DAQ/on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10000" y="3213000"/>
            <a:ext cx="6900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n generated by decay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ght be misidentified as the product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tt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w energy events might be generated by spallation produ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9440" y="32846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429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6946560" y="3214800"/>
            <a:ext cx="1440000" cy="2519280"/>
            <a:chOff x="6946560" y="3214800"/>
            <a:chExt cx="1440000" cy="2519280"/>
          </a:xfrm>
        </p:grpSpPr>
        <p:sp>
          <p:nvSpPr>
            <p:cNvPr id="64" name=""/>
            <p:cNvSpPr/>
            <p:nvPr/>
          </p:nvSpPr>
          <p:spPr>
            <a:xfrm>
              <a:off x="6946920" y="3214800"/>
              <a:ext cx="1439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46920" y="4681800"/>
              <a:ext cx="0" cy="10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946560" y="5302440"/>
              <a:ext cx="122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3800" y="530244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nd ev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25480" y="3646440"/>
            <a:ext cx="2305080" cy="1800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360" y="96840"/>
            <a:ext cx="8547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(Water Cherenkov detector and relatively extreme?? c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349360"/>
            <a:ext cx="79916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very low energy ev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2.2 MeV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(from neutron capture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generates only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~6 PMT hits in S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7880" y="958680"/>
            <a:ext cx="758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one want to detect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very low energy ev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trigger rate gets extremely hi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his depends on the radio activity in the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isolation from the surrounding rock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5480" y="3357720"/>
            <a:ext cx="2305080" cy="576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5480" y="5157720"/>
            <a:ext cx="2305080" cy="576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5480" y="36464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0560" y="36464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29320" y="3309120"/>
            <a:ext cx="3025440" cy="1947960"/>
            <a:chOff x="229320" y="3309120"/>
            <a:chExt cx="3025440" cy="1947960"/>
          </a:xfrm>
        </p:grpSpPr>
        <p:sp>
          <p:nvSpPr>
            <p:cNvPr id="77" name=""/>
            <p:cNvSpPr/>
            <p:nvPr/>
          </p:nvSpPr>
          <p:spPr>
            <a:xfrm flipV="1">
              <a:off x="538200" y="4870080"/>
              <a:ext cx="503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9320" y="4797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041480" y="3357360"/>
              <a:ext cx="1368360" cy="151272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041480" y="4797360"/>
              <a:ext cx="2089080" cy="7272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9996800">
              <a:off x="2552760" y="3306600"/>
              <a:ext cx="365040" cy="1584360"/>
            </a:xfrm>
            <a:prstGeom prst="ellipse">
              <a:avLst/>
            </a:prstGeom>
            <a:noFill/>
            <a:ln cap="rnd" w="7632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955800" y="3069720"/>
            <a:ext cx="2660040" cy="2588040"/>
            <a:chOff x="955800" y="3069720"/>
            <a:chExt cx="2660040" cy="2588040"/>
          </a:xfrm>
        </p:grpSpPr>
        <p:sp>
          <p:nvSpPr>
            <p:cNvPr id="83" name=""/>
            <p:cNvSpPr/>
            <p:nvPr/>
          </p:nvSpPr>
          <p:spPr>
            <a:xfrm flipH="1">
              <a:off x="2266920" y="3933720"/>
              <a:ext cx="216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955800" y="3069720"/>
              <a:ext cx="2660040" cy="2588040"/>
              <a:chOff x="955800" y="3069720"/>
              <a:chExt cx="2660040" cy="2588040"/>
            </a:xfrm>
          </p:grpSpPr>
          <p:sp>
            <p:nvSpPr>
              <p:cNvPr id="85" name=""/>
              <p:cNvSpPr/>
              <p:nvPr/>
            </p:nvSpPr>
            <p:spPr>
              <a:xfrm>
                <a:off x="1980360" y="3933720"/>
                <a:ext cx="35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265480" y="4365360"/>
                <a:ext cx="217440" cy="1081080"/>
              </a:xfrm>
              <a:prstGeom prst="line">
                <a:avLst/>
              </a:prstGeom>
              <a:ln w="38160">
                <a:solidFill>
                  <a:srgbClr val="ffcc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969480" y="4365360"/>
                <a:ext cx="1297080" cy="936720"/>
              </a:xfrm>
              <a:prstGeom prst="line">
                <a:avLst/>
              </a:prstGeom>
              <a:ln w="38160">
                <a:solidFill>
                  <a:srgbClr val="ffcc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300600">
                <a:off x="968400" y="5231880"/>
                <a:ext cx="1513080" cy="360360"/>
              </a:xfrm>
              <a:prstGeom prst="ellipse">
                <a:avLst/>
              </a:prstGeom>
              <a:noFill/>
              <a:ln w="76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2482920" y="3069720"/>
                <a:ext cx="107964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76720" y="3070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"/>
          <p:cNvSpPr/>
          <p:nvPr/>
        </p:nvSpPr>
        <p:spPr>
          <a:xfrm>
            <a:off x="3706920" y="515772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922560" y="4726080"/>
            <a:ext cx="358920" cy="431640"/>
            <a:chOff x="3922560" y="4726080"/>
            <a:chExt cx="358920" cy="431640"/>
          </a:xfrm>
        </p:grpSpPr>
        <p:sp>
          <p:nvSpPr>
            <p:cNvPr id="93" name=""/>
            <p:cNvSpPr/>
            <p:nvPr/>
          </p:nvSpPr>
          <p:spPr>
            <a:xfrm>
              <a:off x="3922560" y="4941720"/>
              <a:ext cx="71280" cy="216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3840" y="4726080"/>
              <a:ext cx="73080" cy="431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66920" y="4870440"/>
              <a:ext cx="71640" cy="287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38560" y="5014800"/>
              <a:ext cx="71280" cy="142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09840" y="5014800"/>
              <a:ext cx="71640" cy="142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218200" y="4941720"/>
            <a:ext cx="431280" cy="216000"/>
            <a:chOff x="5218200" y="4941720"/>
            <a:chExt cx="431280" cy="216000"/>
          </a:xfrm>
        </p:grpSpPr>
        <p:sp>
          <p:nvSpPr>
            <p:cNvPr id="99" name=""/>
            <p:cNvSpPr/>
            <p:nvPr/>
          </p:nvSpPr>
          <p:spPr>
            <a:xfrm>
              <a:off x="5218200" y="5014800"/>
              <a:ext cx="71280" cy="1429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78200" y="4941720"/>
              <a:ext cx="71280" cy="2160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730920" y="3286080"/>
            <a:ext cx="647640" cy="1871640"/>
            <a:chOff x="6730920" y="3286080"/>
            <a:chExt cx="647640" cy="1871640"/>
          </a:xfrm>
        </p:grpSpPr>
        <p:sp>
          <p:nvSpPr>
            <p:cNvPr id="102" name=""/>
            <p:cNvSpPr/>
            <p:nvPr/>
          </p:nvSpPr>
          <p:spPr>
            <a:xfrm>
              <a:off x="6802200" y="4078080"/>
              <a:ext cx="73080" cy="1079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75280" y="3790800"/>
              <a:ext cx="73080" cy="1366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018920" y="3502080"/>
              <a:ext cx="71640" cy="1655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48360" y="3286080"/>
              <a:ext cx="71280" cy="1871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91280" y="3933720"/>
              <a:ext cx="71280" cy="12240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560" y="4294080"/>
              <a:ext cx="73080" cy="863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7280" y="4726080"/>
              <a:ext cx="71280" cy="431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35640" y="3862440"/>
              <a:ext cx="71640" cy="1295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0920" y="4367160"/>
              <a:ext cx="71280" cy="790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922560" y="4681440"/>
            <a:ext cx="0" cy="10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2560" y="53020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00680" y="53020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72320" y="5222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7800" y="5883120"/>
            <a:ext cx="782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 to a trigger generated by a small ac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 high energ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vent” can be split into tw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453360" y="6093000"/>
            <a:ext cx="2232000" cy="64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360" y="10944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impl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9720" y="6253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Record all the hits from PMTs including dark no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8120" y="1058760"/>
            <a:ext cx="80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,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ly the “software” trig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define an ev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3760" y="1500120"/>
            <a:ext cx="7209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Realistic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0kHz dark r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data size of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6bytes/PMT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~840MB/se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a detector with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14k PM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ypical dark rate of PMT in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SK is 3~5kHz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309600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781080" y="3424320"/>
            <a:ext cx="358920" cy="287280"/>
            <a:chOff x="3781080" y="3424320"/>
            <a:chExt cx="358920" cy="287280"/>
          </a:xfrm>
        </p:grpSpPr>
        <p:sp>
          <p:nvSpPr>
            <p:cNvPr id="123" name=""/>
            <p:cNvSpPr/>
            <p:nvPr/>
          </p:nvSpPr>
          <p:spPr>
            <a:xfrm rot="5400000">
              <a:off x="385236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389052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347640" y="3424320"/>
            <a:ext cx="358920" cy="287280"/>
            <a:chOff x="3347640" y="3424320"/>
            <a:chExt cx="358920" cy="287280"/>
          </a:xfrm>
        </p:grpSpPr>
        <p:sp>
          <p:nvSpPr>
            <p:cNvPr id="126" name=""/>
            <p:cNvSpPr/>
            <p:nvPr/>
          </p:nvSpPr>
          <p:spPr>
            <a:xfrm rot="5400000">
              <a:off x="341892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345708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413080" y="3424320"/>
            <a:ext cx="358560" cy="287280"/>
            <a:chOff x="2413080" y="3424320"/>
            <a:chExt cx="358560" cy="287280"/>
          </a:xfrm>
        </p:grpSpPr>
        <p:sp>
          <p:nvSpPr>
            <p:cNvPr id="129" name=""/>
            <p:cNvSpPr/>
            <p:nvPr/>
          </p:nvSpPr>
          <p:spPr>
            <a:xfrm rot="5400000">
              <a:off x="248436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252252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2844720" y="35672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92000" y="3711600"/>
            <a:ext cx="1368360" cy="289080"/>
            <a:chOff x="2592000" y="3711600"/>
            <a:chExt cx="1368360" cy="289080"/>
          </a:xfrm>
        </p:grpSpPr>
        <p:sp>
          <p:nvSpPr>
            <p:cNvPr id="133" name=""/>
            <p:cNvSpPr/>
            <p:nvPr/>
          </p:nvSpPr>
          <p:spPr>
            <a:xfrm>
              <a:off x="396036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27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920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5400000">
            <a:off x="100692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92360" y="3424320"/>
            <a:ext cx="358560" cy="287280"/>
            <a:chOff x="1692360" y="3424320"/>
            <a:chExt cx="358560" cy="287280"/>
          </a:xfrm>
        </p:grpSpPr>
        <p:sp>
          <p:nvSpPr>
            <p:cNvPr id="138" name=""/>
            <p:cNvSpPr/>
            <p:nvPr/>
          </p:nvSpPr>
          <p:spPr>
            <a:xfrm rot="5400000">
              <a:off x="176364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180180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258560" y="3424320"/>
            <a:ext cx="358920" cy="287280"/>
            <a:chOff x="1258560" y="3424320"/>
            <a:chExt cx="358920" cy="287280"/>
          </a:xfrm>
        </p:grpSpPr>
        <p:sp>
          <p:nvSpPr>
            <p:cNvPr id="141" name=""/>
            <p:cNvSpPr/>
            <p:nvPr/>
          </p:nvSpPr>
          <p:spPr>
            <a:xfrm rot="5400000">
              <a:off x="132984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136800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24000" y="3424320"/>
            <a:ext cx="358560" cy="287280"/>
            <a:chOff x="324000" y="3424320"/>
            <a:chExt cx="358560" cy="287280"/>
          </a:xfrm>
        </p:grpSpPr>
        <p:sp>
          <p:nvSpPr>
            <p:cNvPr id="144" name=""/>
            <p:cNvSpPr/>
            <p:nvPr/>
          </p:nvSpPr>
          <p:spPr>
            <a:xfrm rot="5400000">
              <a:off x="39528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43344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755280" y="35672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02920" y="3711600"/>
            <a:ext cx="1368360" cy="289080"/>
            <a:chOff x="502920" y="3711600"/>
            <a:chExt cx="1368360" cy="289080"/>
          </a:xfrm>
        </p:grpSpPr>
        <p:sp>
          <p:nvSpPr>
            <p:cNvPr id="148" name=""/>
            <p:cNvSpPr/>
            <p:nvPr/>
          </p:nvSpPr>
          <p:spPr>
            <a:xfrm>
              <a:off x="1871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82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292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107640" y="4653000"/>
            <a:ext cx="3384360" cy="1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359240"/>
            <a:ext cx="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402920" y="4359240"/>
            <a:ext cx="180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770436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389440" y="3424320"/>
            <a:ext cx="358920" cy="287280"/>
            <a:chOff x="8389440" y="3424320"/>
            <a:chExt cx="358920" cy="287280"/>
          </a:xfrm>
        </p:grpSpPr>
        <p:sp>
          <p:nvSpPr>
            <p:cNvPr id="156" name=""/>
            <p:cNvSpPr/>
            <p:nvPr/>
          </p:nvSpPr>
          <p:spPr>
            <a:xfrm rot="5400000">
              <a:off x="846072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849888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956720" y="3424320"/>
            <a:ext cx="358560" cy="287280"/>
            <a:chOff x="7956720" y="3424320"/>
            <a:chExt cx="358560" cy="287280"/>
          </a:xfrm>
        </p:grpSpPr>
        <p:sp>
          <p:nvSpPr>
            <p:cNvPr id="159" name=""/>
            <p:cNvSpPr/>
            <p:nvPr/>
          </p:nvSpPr>
          <p:spPr>
            <a:xfrm rot="5400000">
              <a:off x="802800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806616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021080" y="3424320"/>
            <a:ext cx="358920" cy="287280"/>
            <a:chOff x="7021080" y="3424320"/>
            <a:chExt cx="358920" cy="287280"/>
          </a:xfrm>
        </p:grpSpPr>
        <p:sp>
          <p:nvSpPr>
            <p:cNvPr id="162" name=""/>
            <p:cNvSpPr/>
            <p:nvPr/>
          </p:nvSpPr>
          <p:spPr>
            <a:xfrm rot="5400000">
              <a:off x="709236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713052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H="1">
            <a:off x="7453080" y="35672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200720" y="3711600"/>
            <a:ext cx="1368360" cy="289080"/>
            <a:chOff x="7200720" y="3711600"/>
            <a:chExt cx="1368360" cy="289080"/>
          </a:xfrm>
        </p:grpSpPr>
        <p:sp>
          <p:nvSpPr>
            <p:cNvPr id="166" name=""/>
            <p:cNvSpPr/>
            <p:nvPr/>
          </p:nvSpPr>
          <p:spPr>
            <a:xfrm>
              <a:off x="85690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360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0072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5400000">
            <a:off x="561528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300360" y="3424320"/>
            <a:ext cx="358920" cy="287280"/>
            <a:chOff x="6300360" y="3424320"/>
            <a:chExt cx="358920" cy="287280"/>
          </a:xfrm>
        </p:grpSpPr>
        <p:sp>
          <p:nvSpPr>
            <p:cNvPr id="171" name=""/>
            <p:cNvSpPr/>
            <p:nvPr/>
          </p:nvSpPr>
          <p:spPr>
            <a:xfrm rot="5400000">
              <a:off x="637164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640980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866920" y="3424320"/>
            <a:ext cx="358920" cy="287280"/>
            <a:chOff x="5866920" y="3424320"/>
            <a:chExt cx="358920" cy="287280"/>
          </a:xfrm>
        </p:grpSpPr>
        <p:sp>
          <p:nvSpPr>
            <p:cNvPr id="174" name=""/>
            <p:cNvSpPr/>
            <p:nvPr/>
          </p:nvSpPr>
          <p:spPr>
            <a:xfrm rot="5400000">
              <a:off x="593820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97636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32000" y="3424320"/>
            <a:ext cx="358920" cy="287280"/>
            <a:chOff x="4932000" y="3424320"/>
            <a:chExt cx="358920" cy="287280"/>
          </a:xfrm>
        </p:grpSpPr>
        <p:sp>
          <p:nvSpPr>
            <p:cNvPr id="177" name=""/>
            <p:cNvSpPr/>
            <p:nvPr/>
          </p:nvSpPr>
          <p:spPr>
            <a:xfrm rot="5400000">
              <a:off x="500328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504144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H="1">
            <a:off x="5364000" y="35672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111280" y="3711600"/>
            <a:ext cx="1368360" cy="289080"/>
            <a:chOff x="5111280" y="3711600"/>
            <a:chExt cx="1368360" cy="289080"/>
          </a:xfrm>
        </p:grpSpPr>
        <p:sp>
          <p:nvSpPr>
            <p:cNvPr id="181" name=""/>
            <p:cNvSpPr/>
            <p:nvPr/>
          </p:nvSpPr>
          <p:spPr>
            <a:xfrm>
              <a:off x="647964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4656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11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 flipV="1">
            <a:off x="5580000" y="4653000"/>
            <a:ext cx="3456000" cy="1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85080" y="4359240"/>
            <a:ext cx="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4367160"/>
            <a:ext cx="0" cy="2872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416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324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6252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5016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78000" y="4799160"/>
            <a:ext cx="1727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61440" y="4799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4799160"/>
            <a:ext cx="1727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11080" y="4799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31640" y="5300280"/>
            <a:ext cx="7559640" cy="32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93080" y="5159520"/>
            <a:ext cx="0" cy="144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43080" y="4654440"/>
            <a:ext cx="0" cy="152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530388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530388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76440" y="5521320"/>
            <a:ext cx="208764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86080" y="552132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44880" y="5521320"/>
            <a:ext cx="208764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2440" y="552132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5000" y="6095880"/>
            <a:ext cx="3097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16080" y="609444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016080" y="6453360"/>
            <a:ext cx="360360" cy="14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76440" y="6238800"/>
            <a:ext cx="273528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32240" y="623880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1720" y="6453360"/>
            <a:ext cx="35892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69200" y="6093000"/>
            <a:ext cx="22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alysis &amp; stor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43080" y="5159520"/>
            <a:ext cx="0" cy="15228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93080" y="4654440"/>
            <a:ext cx="0" cy="144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27280" y="587844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32360" y="587844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3760" y="2924280"/>
            <a:ext cx="73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ssible design ( Schematic diagram of data flow par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0000" y="4398840"/>
            <a:ext cx="26726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or dedicated dat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640" y="51325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403280" y="5876640"/>
            <a:ext cx="289080" cy="43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1320" y="6308640"/>
            <a:ext cx="2492640" cy="337320"/>
          </a:xfrm>
          <a:prstGeom prst="rect">
            <a:avLst/>
          </a:prstGeom>
          <a:noFill/>
          <a:ln w="19080">
            <a:solidFill>
              <a:srgbClr val="33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used to be “event-builde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5421240"/>
            <a:ext cx="255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Sort PMT h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in the order of ti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011640" y="5734080"/>
            <a:ext cx="36036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43640" y="5445000"/>
            <a:ext cx="2592360" cy="576360"/>
          </a:xfrm>
          <a:prstGeom prst="rect">
            <a:avLst/>
          </a:prstGeom>
          <a:noFill/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9440" y="101520"/>
            <a:ext cx="44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ata transfer via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7760" y="4051440"/>
            <a:ext cx="76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Network is quite reliable but not perfect, as al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44388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 TCP/IP might be a cause of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ice driver or network equipment might be broken or bug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defects in equipment or software creates corrupt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94600" y="5373720"/>
            <a:ext cx="70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areful design of the network is ver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575928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raffic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ing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typical packet (data block) siz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Monitoring poi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where and how to tap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2480" y="585720"/>
            <a:ext cx="79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Network performa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eavily depe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the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size of each data pack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the design of the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network topolog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5614920"/>
            <a:ext cx="431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5200" y="1700280"/>
            <a:ext cx="842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characteristic of the data flow of online/DAQ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th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usual client-server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29480" y="2468520"/>
            <a:ext cx="710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,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he server sends large amount of data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the request from a cl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DAQ system,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erver “collects” dat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2680" y="3429000"/>
            <a:ext cx="83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network components are ( sometimes ) desig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maximize their performance for the “usual” client-server mod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021440" y="5302080"/>
            <a:ext cx="194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01600" y="5302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nd-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21440" y="530208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75240" y="53020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4160" y="101520"/>
            <a:ext cx="49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igh availability (HA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5640" y="692280"/>
            <a:ext cx="82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online/DAQ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one of the computer will be down at any mo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432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reduce downtime of the detect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pt of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the HA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ems to be useful and attr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3400" y="2100240"/>
            <a:ext cx="827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ways monitor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tatus of the system (comput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ce one of the computer seems to have proble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tand-by machine starts wor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Used for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eb, database and disk serv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, complete replica of the server is prepa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0120" y="3735360"/>
            <a:ext cx="82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nline/DAQ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t is quit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ymmetr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th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a few backups for each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ll be suffic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4360" y="530064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18160" y="5300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5011560"/>
            <a:ext cx="84963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5240" y="5300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21600" y="5300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2108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5308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672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5300640"/>
            <a:ext cx="201780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0280" y="530064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us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600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732640"/>
            <a:ext cx="115236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571640" y="5732640"/>
            <a:ext cx="107964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35280" y="6164280"/>
            <a:ext cx="187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71600" y="623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r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5732640"/>
            <a:ext cx="0" cy="647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6380280"/>
            <a:ext cx="33843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716360" y="5300640"/>
            <a:ext cx="1943280" cy="432000"/>
            <a:chOff x="4716360" y="5300640"/>
            <a:chExt cx="1943280" cy="432000"/>
          </a:xfrm>
        </p:grpSpPr>
        <p:sp>
          <p:nvSpPr>
            <p:cNvPr id="260" name=""/>
            <p:cNvSpPr/>
            <p:nvPr/>
          </p:nvSpPr>
          <p:spPr>
            <a:xfrm>
              <a:off x="4716360" y="5300640"/>
              <a:ext cx="1943280" cy="432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97520" y="5300640"/>
              <a:ext cx="13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topped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V="1">
            <a:off x="4572000" y="5732280"/>
            <a:ext cx="338472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8920" y="443700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99160" y="4699080"/>
            <a:ext cx="39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Dedicated line for the status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72880" y="587700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ata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26920" y="1830240"/>
            <a:ext cx="75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imple forma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mbedded “easy to identify” tag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always very use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0720" y="101520"/>
            <a:ext cx="65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ata format used in the onl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7600" y="620640"/>
            <a:ext cx="85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b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the on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sed in the offlin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1840" y="5300640"/>
            <a:ext cx="84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, it is helpf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keep the “original” form of the (corrupted)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identifying the cause of a troubl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in the offline form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9400" y="3798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52520" y="252576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may need to capture and analyze data on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investigate th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33840" y="3413160"/>
            <a:ext cx="80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not easy to </a:t>
            </a:r>
            <a:r>
              <a:rPr b="0" lang="en-US" sz="2000" spc="-1" strike="noStrike">
                <a:solidFill>
                  <a:srgbClr val="ff33cc"/>
                </a:solidFill>
                <a:latin typeface="Comic Sans MS"/>
              </a:rPr>
              <a:t>keep up with the updates of the offline softwa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37400" y="3773520"/>
            <a:ext cx="749772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ce you start the experi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people want to take data as much as possi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simple update of the libr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cause “unexpected” troub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7760" y="1052640"/>
            <a:ext cx="80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Preparing a data format conver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is easier and safer in various reasons, st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0080" y="8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97560" y="692280"/>
            <a:ext cx="57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onitoring the data qua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quick detection of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importa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2680" y="4005360"/>
            <a:ext cx="480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rror detection - Possible check po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) Electronics (front-end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) Readou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 Hits sorter + M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) Intelligent trigg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) Data quality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27080" y="185724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285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288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291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295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8000" y="35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3880" y="6021360"/>
            <a:ext cx="84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At each checkpoint, characteristics of accumulated data are diffe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Monitor data quality at each point will be eff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2241720"/>
            <a:ext cx="574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sary for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troubleshoo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ay want to 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minor trou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08360" y="3357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understand the situ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 is necessary to keep “erroneous”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0080" y="8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87240" y="3213000"/>
            <a:ext cx="507420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There might be no PMT hits in a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for certain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1332000" y="691920"/>
            <a:ext cx="358560" cy="1800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320" y="141444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20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23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26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330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5120" y="242244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8000" y="3502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58040" y="765000"/>
            <a:ext cx="50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0000cc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check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ront-end electronics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6280" y="5357880"/>
            <a:ext cx="87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nt FPGA can provide smart hardware level error de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preparing the error detection co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n’t forget to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keep both the erro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nd “erroneous data” themsel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16360" y="1617840"/>
            <a:ext cx="57592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requirement for the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 the continuous data taking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84560" y="2421000"/>
            <a:ext cx="5780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he front-end board should be desig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o generate periodic “heart beat”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92360" y="4091040"/>
            <a:ext cx="5545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difficult to identif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ther the board without PMT h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s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alive or no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later check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6:01:19Z</dcterms:created>
  <dc:creator>Yoshinari Hayato</dc:creator>
  <dc:description/>
  <dc:language>en-US</dc:language>
  <cp:lastModifiedBy>Yoshinari Hayato</cp:lastModifiedBy>
  <dcterms:modified xsi:type="dcterms:W3CDTF">2006-09-23T13:09:08Z</dcterms:modified>
  <cp:revision>32</cp:revision>
  <dc:subject/>
  <dc:title>Online and offline data handling  for large detectors (designed for non-accelerator experiments)</dc:title>
</cp:coreProperties>
</file>